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57087"/>
        <c:axId val="98268384"/>
      </c:barChart>
      <c:catAx>
        <c:axId val="61157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68384"/>
        <c:crosses val="autoZero"/>
        <c:auto val="1"/>
        <c:lblAlgn val="ctr"/>
        <c:lblOffset val="100"/>
        <c:noMultiLvlLbl val="0"/>
      </c:catAx>
      <c:valAx>
        <c:axId val="98268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7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471-A63F-4720-96D1-D38D015C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C49-C33D-4295-AEAA-77D87C7C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25D-DFD3-44A6-A33F-71CA153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718-AF95-44B2-926E-72E79A3D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367-080E-4FC6-B7D4-BB301EDD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583-F491-4E3B-866D-A4018FC8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172-D2A4-49C8-9ED6-58ECFCDB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BB1-E330-4C77-A88D-A1D5C4A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5C1-23A7-4562-B54F-29676C2A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01-5B8B-42A9-9BD1-AE25332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F71-B1CB-4330-9C87-8822893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F59-1719-40A3-BA01-7700457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8D6BB-24F5-4AB2-938D-218615CD84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