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86514"/>
        <c:axId val="89300759"/>
      </c:barChart>
      <c:catAx>
        <c:axId val="55086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00759"/>
        <c:crosses val="autoZero"/>
        <c:auto val="1"/>
        <c:lblAlgn val="ctr"/>
        <c:lblOffset val="100"/>
        <c:noMultiLvlLbl val="0"/>
      </c:catAx>
      <c:valAx>
        <c:axId val="89300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86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BD0-885A-4EA3-9835-F79959B0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E01-2B3C-44B1-B50B-8639CD1E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E56-C8C2-4E7F-99E9-3CED4A1D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1F1-ED3E-40D7-AA3A-31BB54C1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685-6D7A-42DD-8F93-924B43E8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E31-947D-4C2F-9A65-8E5FA885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51D-F950-4D0D-B2B0-901851FE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FE0-0A2D-4243-ACAC-E4164A4D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981-04C3-4FB9-AD28-886EB9D6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161-46A9-42F6-BFE8-31267B6E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CB5-8E9E-4F16-BB0B-00CBCC93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906-6F65-49E3-8A01-083BBD6A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700E3-75C2-436C-B8A0-64AF2F70D9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